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8A72-A5E4-49CD-A32D-5365F92E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A0D0-2E02-43DD-8FCE-5DD324B8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BCE9-1F2F-435A-9699-943BD963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3DD2-02E1-43E0-A06F-A80B4202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F2C6-238B-4E92-8695-25EAD6D5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3DCC-B1D1-4BA5-B4BC-4BA88156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6393-61FD-4D60-9288-90D86B43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5143-D9E1-40D7-B148-BFC34057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A552-F446-44DC-8DD8-33B92932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EFDB-1FA0-4C7B-BE95-0494EF55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B8E3-C26C-4B3D-86A4-C145CB95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53E9-AF4D-4078-80C0-BCD02C48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4A7A-EB44-45C2-944D-D5A20173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42E1-2F60-4242-A124-334F7529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C900-D20B-45A4-AC0A-FCAD0801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519B-55E1-4AF0-B09D-359DA185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2C49-F7ED-46F0-8905-B195BEC4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D691-14F4-45D2-8BA0-58CA2E1E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6B0C-9C89-41EC-BE7D-6DCBAA9F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524E-4EC8-4B23-BEFD-43612FE2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C816-A123-467D-9487-C7CF40F2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CFBA-3495-4CFD-9F90-0AB50B0E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521D-0C46-4654-9DF8-C29BE1EE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F26-A25F-4DD2-9E26-815ADD96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fefefe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9C05-B6F4-47E3-946E-71FBA0352A8E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B0A3-13EB-45B9-9748-8AE38D6FCEB0}" type="slidenum">
              <a:rPr b="0" lang="en-US" sz="14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Suggested%20Guidelines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Individual Tier I/PEP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93720" y="1981080"/>
            <a:ext cx="59547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dfdfd"/>
                </a:solidFill>
                <a:uFillTx/>
                <a:latin typeface="Arial"/>
              </a:rPr>
              <a:t>How to determine </a:t>
            </a:r>
            <a:br>
              <a:rPr sz="3600"/>
            </a:br>
            <a:r>
              <a:rPr b="1" lang="en-US" sz="3600" spc="-1" strike="noStrike" u="sng">
                <a:solidFill>
                  <a:srgbClr val="fdfdfd"/>
                </a:solidFill>
                <a:uFillTx/>
                <a:latin typeface="Arial"/>
              </a:rPr>
              <a:t>what data can be used?</a:t>
            </a:r>
            <a:endParaRPr b="1" lang="en-US" sz="36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Ask two questions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fefe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Does what I am using allow me to communicate details to parents?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efefe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Does what I am using allow me to give details when discussing the student with school teams?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efe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CBMs are good to use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efe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To learn more about CBMs, review PowerPoint, which gives a summary of the book:  </a:t>
            </a:r>
            <a:r>
              <a:rPr b="0" i="1" lang="en-US" sz="2000" spc="-1" strike="noStrike">
                <a:solidFill>
                  <a:srgbClr val="fefefe"/>
                </a:solidFill>
                <a:latin typeface="Arial"/>
              </a:rPr>
              <a:t>The ABCs of CBM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Do a separate needs assessment 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(page two) for each 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area of difficulty.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Area(s) Concern</a:t>
            </a:r>
            <a:br>
              <a:rPr sz="4400"/>
            </a:br>
            <a:r>
              <a:rPr b="1" lang="en-US" sz="2000" spc="-1" strike="noStrike">
                <a:solidFill>
                  <a:srgbClr val="fdfdfd"/>
                </a:solidFill>
                <a:latin typeface="Arial"/>
              </a:rPr>
              <a:t>Page Two</a:t>
            </a:r>
            <a:endParaRPr b="1" lang="en-US" sz="20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Check those areas that are affected by the identified need.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More than one area may be checked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For example, if the student has a reading difficulty, that may be affecting the student in multiple areas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efe"/>
                </a:solidFill>
                <a:latin typeface="Arial"/>
              </a:rPr>
              <a:t>Writing Goals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Keeping in mind the rate at which the student’s peers are progressing, identify a timeframe for accelerating (the student’s) learning to the level of his/her peers.  This becomes your long term goal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Using the long term goal as a guide, determine reasonable short term goal(s)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efe"/>
                </a:solidFill>
                <a:latin typeface="Arial"/>
              </a:rPr>
              <a:t>SMART Goal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2640" y="2355840"/>
            <a:ext cx="7162920" cy="36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S - specific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Well defined.  Clear to anyone that has a basis knowledge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M - measurable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Concrete criteria for measuring progress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A - attainable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Challenging, but not out of reach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R - Realistic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Within the availability of resources, knowledge and time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T - Timely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Grounded within a time frame 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Suggested Guidelines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Additional assistance for working through the PEP.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Located on the wiki.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89749"/>
                </a:solidFill>
                <a:uFillTx/>
                <a:latin typeface="Arial"/>
                <a:hlinkClick r:id="rId1"/>
              </a:rPr>
              <a:t>Suggested Guidelines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Individual Tier I/PEP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fe"/>
                </a:solidFill>
                <a:latin typeface="Arial"/>
              </a:rPr>
              <a:t>A plan for focused intervention that is tailored to address a specific student’s individual needs.</a:t>
            </a:r>
            <a:endParaRPr b="0" lang="en-US" sz="32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91404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Diagnostic</a:t>
            </a:r>
            <a:br>
              <a:rPr sz="4400"/>
            </a:br>
            <a:r>
              <a:rPr b="1" lang="en-US" sz="2000" spc="-1" strike="noStrike">
                <a:solidFill>
                  <a:srgbClr val="fdfdfd"/>
                </a:solidFill>
                <a:latin typeface="Arial"/>
              </a:rPr>
              <a:t>Page One</a:t>
            </a:r>
            <a:br>
              <a:rPr sz="2000"/>
            </a:br>
            <a:r>
              <a:rPr b="1" lang="en-US" sz="2000" spc="-1" strike="noStrike">
                <a:solidFill>
                  <a:srgbClr val="fdfdfd"/>
                </a:solidFill>
                <a:latin typeface="Arial"/>
              </a:rPr>
              <a:t>Only do once no matter how many needs.</a:t>
            </a:r>
            <a:endParaRPr b="1" lang="en-US" sz="20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Complete identifying information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Attach Easy Grade Pro and/or documentation indicating current levels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Request NCWISE reports from your NCWISE manager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Complete hearing screening sheet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Complete vision screening sheet 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Complete parent information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Service Descriptions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Small Group Instruction - Student is provided instruction in a group of no more than eight students for 30 minutes or more on a regular basis.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504 Accommodations - Student has a current 504 plan that is being implemented.  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Speech/Language Therapy - Student is receiving regular speech/language services by a school therapist and/or therapist from outside the school.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Occupational Therapy - Student is receiving regular occupational therapy services by a school therapist and or therapist from outside the school.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Individual Instruction - Student is provided one-on-one instruction for 20 minutes or more on a regular basis.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Community Services - Student is participating in a  counseling program on psychosocial or emotional/behavioral issues with a community-based therapeutic provider during the regular school day or outside of the regular school day.  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Service Descriptions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Physical Therapy - Student is receiving physical therapy services by a school therapist and/or therapist from outside the school.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Counseling - The student is participating in regular counseling on psychosocial or emotional/behavioral issues with a school based counselor during the regular school day. </a:t>
            </a:r>
            <a:r>
              <a:rPr b="0" i="1" lang="en-US" sz="1600" spc="-1" strike="noStrike">
                <a:solidFill>
                  <a:srgbClr val="fefefe"/>
                </a:solidFill>
                <a:latin typeface="Arial"/>
              </a:rPr>
              <a:t>Before listing services, be sure to check with the school provider regarding confidentiality.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Tutoring - Student is participating in an individual and/or group-tutoring program during the regular school day or outside of the regular school day.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Math Lab - Student participates in a supplementary math program.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Title I - Not applicable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ESL/LEP/ELL - Student is identified as limited English proficient student and may or may not be receiving services.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Reading Lab - Student participates in a supplementary reading program. </a:t>
            </a:r>
            <a:endParaRPr b="0" lang="en-US" sz="16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efe"/>
                </a:solidFill>
                <a:latin typeface="Arial"/>
              </a:rPr>
              <a:t>Needs Assessment</a:t>
            </a:r>
            <a:br>
              <a:rPr sz="4400"/>
            </a:br>
            <a:r>
              <a:rPr b="1" lang="en-US" sz="2000" spc="-1" strike="noStrike">
                <a:solidFill>
                  <a:srgbClr val="fefefe"/>
                </a:solidFill>
                <a:latin typeface="Arial"/>
              </a:rPr>
              <a:t>Page Two</a:t>
            </a:r>
            <a:endParaRPr b="1" lang="en-US" sz="20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1629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New line of thought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Think about the area’s components/domains/function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Problem:  Alicia is struggling in the area of math.  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</a:rPr>
              <a:t>Analysis:  This difficulty is due to weak …. (problem-solving skills, arithmetic fluency, conceptual knowledge/number sense, or reasoning ability.)</a:t>
            </a:r>
            <a:endParaRPr b="0" lang="en-US" sz="24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fd"/>
                </a:solidFill>
                <a:latin typeface="Arial"/>
              </a:rPr>
              <a:t>Why?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efe"/>
                </a:solidFill>
                <a:latin typeface="Arial"/>
              </a:rPr>
              <a:t>DPI clearly indicated that evidence based practices/programs address the 5 components of reading instruction and the 4 essential math domains.  Therefore, we need to make sure that our intervention programs are addressing these components, domains, etc.</a:t>
            </a: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See Comprehensive Assessment of Need:  Indicators of Evidence Based Practices/Programs.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Arial"/>
              </a:rPr>
              <a:t>Guiding Questions for </a:t>
            </a:r>
            <a:br>
              <a:rPr sz="3600"/>
            </a:br>
            <a:r>
              <a:rPr b="1" lang="en-US" sz="3600" spc="-1" strike="noStrike">
                <a:solidFill>
                  <a:srgbClr val="fefefe"/>
                </a:solidFill>
                <a:latin typeface="Arial"/>
              </a:rPr>
              <a:t>Defining Skill Area</a:t>
            </a:r>
            <a:r>
              <a:rPr b="1" lang="en-US" sz="3600" spc="-1" strike="noStrike">
                <a:solidFill>
                  <a:srgbClr val="4a090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In the area of (content, skill), peers are able to (What can they do?).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Compared to his/her peers (student) is able to (What can s/he do?).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How far off grade level (the learning gap) is (student) in this area?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Are there prerequisite skills that (student) must do in order to perform as well as his/her peers?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(If yes to #4) What skills can (the student) do and what skills is s/he not able to do?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Identify which skill(s) should be addressed.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49"/>
              </a:spcBef>
              <a:buClr>
                <a:srgbClr val="fefef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efe"/>
                </a:solidFill>
                <a:latin typeface="Arial"/>
              </a:rPr>
              <a:t>These do not have to be used.  They are for support.</a:t>
            </a: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fefe"/>
                </a:solidFill>
                <a:latin typeface="Arial"/>
              </a:rPr>
              <a:t>Guiding Insights</a:t>
            </a:r>
            <a:endParaRPr b="1" lang="en-US" sz="44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Does it have endurance?</a:t>
            </a: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Is the skill needed over time?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Does it have leverage?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Will proficiency in this skill help the student in other areas of the curriculum and other academic disciplines?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efef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efe"/>
                </a:solidFill>
                <a:latin typeface="Arial"/>
              </a:rPr>
              <a:t>Does it develop student readiness for the next level of learning?</a:t>
            </a:r>
            <a:endParaRPr b="0" lang="en-US" sz="20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fef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Is it essential for success as the student moves through the curriculum and/or to the next level?</a:t>
            </a: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fefef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Arial"/>
              </a:rPr>
              <a:t>These do not have to be used.  They are for support.</a:t>
            </a:r>
            <a:endParaRPr b="0" lang="en-US" sz="12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efe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23:52:33Z</dcterms:created>
  <dc:creator>Chatham County Schools</dc:creator>
  <dc:description/>
  <dc:language>en-US</dc:language>
  <cp:lastModifiedBy>Chatham County Schools</cp:lastModifiedBy>
  <dcterms:modified xsi:type="dcterms:W3CDTF">2010-06-17T23:53:22Z</dcterms:modified>
  <cp:revision>1</cp:revision>
  <dc:subject/>
  <dc:title>Individual Tier I/PEP</dc:title>
</cp:coreProperties>
</file>